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DFA-0AF7-43B5-B451-D10E4CD7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BDA-661A-4F23-A33F-C6BF288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436-6F80-4C1C-AE01-0358A263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D4B-7428-4002-A80D-5F59E9B5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3B14-F262-4A05-A964-5B51776B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1EE-7478-460B-BCDA-F515DDBC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BB2-FF85-47C2-8C4A-082B46E9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1B01-7EAD-4736-AD01-A09EE49B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2D8-FAC7-4E71-B3D2-17C2B8BD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DC52-3821-42B8-A7D0-D2730ECE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7FDF-8BC8-4B24-B27E-9A37407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FB4-25D2-4E5B-96D5-6B44BCAB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587-C856-4851-8D9E-628E295C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70A-F3D7-4EFE-815A-2FB86BF8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FA82-2B67-41BD-8734-FE57568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C86B-E2A9-428C-A2A5-45076E35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7A4E-F859-4BD3-A5CE-F4927E2C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8B0-A1A4-482D-B195-FBC39B1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D16-674C-47C8-855E-C86A9B0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D63-4855-45BD-B2D8-ECA6127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54A-B361-4FCE-B914-1F016A8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112-FE80-4628-9D6F-B83E4459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7B6-CD6E-4853-8757-0BF9895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FB1-042A-4011-90C2-ECCA98B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789-D381-42DD-BF97-673348AC3D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662-0354-47A9-83DB-464678F7EF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Unequal Comparison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6708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Page 22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Avancemos 2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, peor, may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plural forms ending in -es. However, they don’t have a different feminine form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5410080" y="5638680"/>
            <a:ext cx="26672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Las hermana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de Pedro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re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que las de Jua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etter) is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i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well)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(worse)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al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adly)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hen used in this sense,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only one for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3200400" y="5105520"/>
            <a:ext cx="449568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 en teni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juegan tenis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You have learned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 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in certain expressi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505320" y="4952880"/>
            <a:ext cx="434340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 gusta el tenis pero me gusta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el fútbol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¿Te gustan las manzanas? Si,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e also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‘than’) to make comparis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Los discos compactos de Los Toros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 popula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los discos compactos de Los Lobo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rge es menos serio que María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agree with the nouns they refer t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ueno, malo, viejo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irregular comparative forms.  We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o not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with the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buen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l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viej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886200" y="28195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492520" y="23623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j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809880" y="37339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733920" y="4572000"/>
            <a:ext cx="14475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809880" y="548640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493240" y="3276720"/>
            <a:ext cx="29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e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264280" y="4114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y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41320" y="502920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n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Suzanne</cp:lastModifiedBy>
  <cp:lastPrinted>2009-04-22T19:24:48Z</cp:lastPrinted>
  <dcterms:modified xsi:type="dcterms:W3CDTF">2009-08-23T23:05:26Z</dcterms:modified>
  <cp:revision>12</cp:revision>
  <dc:subject/>
  <dc:title>PowerPoint Presentation</dc:title>
</cp:coreProperties>
</file>